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3D09-8A88-49C2-B488-9FCD29058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699-A828-43CE-9807-047085CD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A33-015F-463B-96C0-C24A8AE0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43C-C5E0-44E0-93B0-8945F3C9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97D-EE96-43B1-9C99-922192288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2AB9-C69A-4397-888C-523AE728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E64F-5032-4245-8D47-9708EE1D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CEBF-5E76-492F-8FAC-022A9517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59FAD-BE3E-43BB-8C24-71F4A87B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3E33-4B13-4080-A5F4-6DE650FC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759F-4D13-4EF2-980B-7A4D6735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0AB-9E4C-47E2-981B-BE90A660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0E31-2E1C-45B1-A4DC-58BEEA22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8272-9F0D-4979-A1DE-7CD84D4A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D74C-1EDF-4882-97FD-DC594983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8B87-82D5-4259-88AB-EE684BEB6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B9FB-F359-4304-94FB-18A9117F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540-77F2-4264-A35F-6CFD149A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C1E9-1E3E-4EB6-905E-23C8E377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8876-74E2-4C3F-895F-0422A155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CCF-5BEC-446A-8F24-CCD3C32F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D59-6561-45FD-B5EF-7C9F88A8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88C-8444-4FA3-A15B-E059504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781-85A6-46BF-B04D-162F7DD4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2438-C6FB-4D68-BEEB-8A3F7A73B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9D46-28C6-47C1-A2B7-7DCBA0A38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ese.mo.gov/divimprove/sia/msip/DOK_presentation.pdf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issouriartscouncil.org/html/documents/DOKlevels.pdf" TargetMode="External"/><Relationship Id="rId2" Type="http://schemas.openxmlformats.org/officeDocument/2006/relationships/hyperlink" Target="http://www.hermann.k12.mo.us/Curriculum/DOK/depth.of.knowledge.descriptors.pd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signing and Planning Technology-Enhanced Instruction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apter 2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tep 3: Establish the Learning Environm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676160"/>
            <a:ext cx="7313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ysical spa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ell-lit reading are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armer or cooler se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formal seating are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et or screened study are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assroom clima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lexibility, cooperation, healthy competition, active learn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ttitu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acher positive and encourag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udents confid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4: Identify T &amp; L Strateg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540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66"/>
                </a:solidFill>
                <a:latin typeface="Verdana"/>
              </a:rPr>
              <a:t>Teaching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ethods used to assist students in achieving the objecti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66"/>
                </a:solidFill>
                <a:latin typeface="Verdana"/>
              </a:rPr>
              <a:t>Learning strateg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chniques and activities students are required to engage in to master the cont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aching and learning strategies are components of the </a:t>
            </a:r>
            <a:r>
              <a:rPr b="0" lang="en-US" sz="2900" spc="-1" strike="noStrike">
                <a:solidFill>
                  <a:srgbClr val="ff0066"/>
                </a:solidFill>
                <a:latin typeface="Verdana"/>
              </a:rPr>
              <a:t>Pedagogical Cyc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dagogical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5" descr="fig2"/>
          <p:cNvPicPr/>
          <p:nvPr/>
        </p:nvPicPr>
        <p:blipFill>
          <a:blip r:embed="rId1"/>
          <a:stretch/>
        </p:blipFill>
        <p:spPr>
          <a:xfrm>
            <a:off x="905040" y="1600200"/>
            <a:ext cx="793404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380880" y="62485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 6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5: Identify &amp; Select Technologi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61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structional technologies are the tools used to enhance and support the teaching and learning strategies planned…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chnology’s primary role is in support of the strategies …select[ed]”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776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6: Plan Summative Evalu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9810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valuate effectivenes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ke appropriate revis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ltimate evaluation is students’ performance based on instructional objectiv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 student achievement and other feedback to make improvements in your instructional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table2"/>
          <p:cNvPicPr/>
          <p:nvPr/>
        </p:nvPicPr>
        <p:blipFill>
          <a:blip r:embed="rId1"/>
          <a:stretch/>
        </p:blipFill>
        <p:spPr>
          <a:xfrm>
            <a:off x="76320" y="304920"/>
            <a:ext cx="8839080" cy="6629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4876920" y="647712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. 64-6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table2"/>
          <p:cNvPicPr/>
          <p:nvPr/>
        </p:nvPicPr>
        <p:blipFill>
          <a:blip r:embed="rId1"/>
          <a:stretch/>
        </p:blipFill>
        <p:spPr>
          <a:xfrm>
            <a:off x="0" y="225360"/>
            <a:ext cx="8991720" cy="63007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6934320" y="5867280"/>
            <a:ext cx="129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cccc"/>
                </a:solidFill>
                <a:latin typeface="Verdana"/>
              </a:rPr>
              <a:t>3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Plan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22096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sson plan is the daily instructional guideli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llows same basic organization as the instructional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sson plan steps ar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adying the learn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argeting specific objecti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paring the less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table2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77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09480" y="6248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.70-7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1143000" y="1981080"/>
            <a:ext cx="7010280" cy="371700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rmata-MediumCondensed"/>
              </a:rPr>
              <a:t>STEP 3: PREPARE THE LESSON (cont.)</a:t>
            </a:r>
            <a:r>
              <a:rPr b="1" lang="en-US" sz="1400" spc="-1" strike="noStrike">
                <a:solidFill>
                  <a:srgbClr val="000000"/>
                </a:solidFill>
                <a:latin typeface="Formata-MediumCondense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Formata-MediumCondensed"/>
              </a:rPr>
              <a:t>EXAMPLES (cont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Formata-CondensedItalic"/>
              </a:rPr>
              <a:t>                                                                          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Technology/Media Prepa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Scan, print, and make copies of bank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center forms. Enlarge one of each and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laminate the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Prepare money equivalence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transpar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Create a chart of bank processes on a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computer, print out, enlarge, and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laminat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Locate a suitable bank web site to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shar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Formata-CondensedItalic"/>
              </a:rPr>
              <a:t>Assessment Prepar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Prepare and administer a quiz asking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students to fill in each type of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form and to compute their account 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ormata-LightCondensed"/>
              </a:rPr>
              <a:t>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sson Plan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ffective Learning Environ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earning environment includes all conditions, circumstances, and influences that affect the learner’s development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ysical environ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aching and learning proc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ategies and technolog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a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ssessment techniqu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equires systematic plann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ructional Action Plan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1827360"/>
            <a:ext cx="8001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ticulate your lesson’s to-do li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tail all preparations necessary for a successful less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action planning steps are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dentifying learner preparation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tting classroom read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sting teaching-learning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ing personal promp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sting support technolog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sting feedback instru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tailing follow-up activ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table2"/>
          <p:cNvPicPr/>
          <p:nvPr/>
        </p:nvPicPr>
        <p:blipFill>
          <a:blip r:embed="rId1"/>
          <a:stretch/>
        </p:blipFill>
        <p:spPr>
          <a:xfrm>
            <a:off x="609480" y="96840"/>
            <a:ext cx="8153640" cy="6761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990720" y="64008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. 72-7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7800"/>
            <a:ext cx="7313400" cy="91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tion Planner (cont.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80880" y="1447920"/>
            <a:ext cx="4419720" cy="533376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-DO #5: LIST SUPPORT TECHNOLOG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scribe the things you need to do to ensure that the technologies you have selected are available and work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echnologies and related materials need to be acquired for another source? From whe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hardware or software adjustments need to be mad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ch technologies need to be checked to be sure they are functioning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-DO #6: LIST FEEDBACK INSTRU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Describe the feedback instruments you need to have ready for this less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you need for formative feedback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you need for summative feedback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-DO #7: DETAIL FOLLOW-UP ACTIV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Given the feedback, describe the follow-up activ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lesson was not successful, what remediation is plan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lesson was successful, what reinforcement is plan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257800" y="11430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800600" y="1447920"/>
            <a:ext cx="4191120" cy="533376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Technology Check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Make sure the scanner is work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Check the printer cartrid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Get colored paper from the art roo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Get ink-jet transparency film from the off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Install a software upgra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Print the home page of web sites on which to make no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Check the LCD display for all cables and to be sure it i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ork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eedback Check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Rubric for assessing performance while at the bank cent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Quiz on filling in forms and determining bal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Lesson objective test on terms and concep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___ Student satisfaction questionnai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emedi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werPoint self-paced review of key terms followed by a quiz on key points; direct tutoring or peer mentoring if mastery is not demonstrated on quiz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einforcement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tinued use of the bank center for a token-economy reward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151920"/>
            <a:ext cx="7313400" cy="137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lanning, Teaching,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earning and Technolo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lueprint of overall un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arrows the planning to a specific objective and knowledge seg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sson plan to-do li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echnolog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nly after instructional planning complet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ke better or create new possibil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structional Planning Syste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9810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3300"/>
                </a:solidFill>
                <a:latin typeface="Verdana"/>
              </a:rPr>
              <a:t>Design-Plan-Act (DPA)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3300"/>
                </a:solidFill>
                <a:latin typeface="Verdana"/>
              </a:rPr>
              <a:t>Design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Design the instructional unit (Create your </a:t>
            </a:r>
            <a:r>
              <a:rPr b="0" lang="en-US" sz="2900" spc="-1" strike="noStrike">
                <a:solidFill>
                  <a:srgbClr val="cc3300"/>
                </a:solidFill>
                <a:latin typeface="Verdana"/>
              </a:rPr>
              <a:t>uni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design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3300"/>
                </a:solidFill>
                <a:latin typeface="Verdana"/>
              </a:rPr>
              <a:t>Plan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Articulate specific lesson plans (Design your </a:t>
            </a:r>
            <a:r>
              <a:rPr b="0" lang="en-US" sz="2900" spc="-1" strike="noStrike">
                <a:solidFill>
                  <a:srgbClr val="cc3300"/>
                </a:solidFill>
                <a:latin typeface="Verdana"/>
              </a:rPr>
              <a:t>daily lesson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c3300"/>
                </a:solidFill>
                <a:latin typeface="Verdana"/>
              </a:rPr>
              <a:t>Act: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Develop an instructional action plan (Write the </a:t>
            </a:r>
            <a:r>
              <a:rPr b="0" lang="en-US" sz="2900" spc="-1" strike="noStrike">
                <a:solidFill>
                  <a:srgbClr val="cc3300"/>
                </a:solidFill>
                <a:latin typeface="Verdana"/>
              </a:rPr>
              <a:t>to-do list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80520"/>
            <a:ext cx="73134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ynamic Instructional Design (DID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5" descr="fig2"/>
          <p:cNvPicPr/>
          <p:nvPr/>
        </p:nvPicPr>
        <p:blipFill>
          <a:blip r:embed="rId1"/>
          <a:stretch/>
        </p:blipFill>
        <p:spPr>
          <a:xfrm>
            <a:off x="1143000" y="990720"/>
            <a:ext cx="7543800" cy="5715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129528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. 4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5791320" y="1168560"/>
            <a:ext cx="320040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Continually growth and adjustment based on data provided by ongoing feedb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1: Know the Learn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mental stag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ultural or language backgrou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coming skills and knowledg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arning &amp; cognitive styles, types of intelligenc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roup similarities and differences and how they might affect the desig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tep 2: State Your 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388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Use Performance Objectiv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Use action verb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Verdana"/>
              </a:rPr>
              <a:t>Use Depth of Knowledge to target higher order thinking skills (not Bloom’s Taxonomy) </a:t>
            </a: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dese.mo.gov/divimprove/sia/msip/DOK_presentation.pd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erformance Objectiv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827000"/>
            <a:ext cx="784872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0" lang="en-US" sz="2900" spc="-1" strike="noStrike">
                <a:solidFill>
                  <a:srgbClr val="33cccc"/>
                </a:solidFill>
                <a:latin typeface="Verdana"/>
              </a:rPr>
              <a:t>The student will be able to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990099"/>
                </a:solidFill>
                <a:latin typeface="Verdana"/>
              </a:rPr>
              <a:t>identif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990099"/>
                </a:solidFill>
                <a:latin typeface="Verdana"/>
              </a:rPr>
              <a:t>latitude and longitude lines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ff00"/>
                </a:solidFill>
                <a:latin typeface="Verdana"/>
              </a:rPr>
              <a:t>on a map </a:t>
            </a:r>
            <a:r>
              <a:rPr b="0" lang="en-US" sz="2900" spc="-1" strike="noStrike">
                <a:solidFill>
                  <a:srgbClr val="ff0066"/>
                </a:solidFill>
                <a:latin typeface="Verdana"/>
              </a:rPr>
              <a:t>with 100 % accurac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Stem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The student will be able t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99"/>
                </a:solidFill>
                <a:latin typeface="Verdana"/>
              </a:rPr>
              <a:t>Target performance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…identify latitude and longitude lines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ff00"/>
                </a:solidFill>
                <a:latin typeface="Verdana"/>
              </a:rPr>
              <a:t>Measurement condition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…on a map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Verdana"/>
              </a:rPr>
              <a:t>Criterion for success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with 100% accurac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786960" y="4876920"/>
            <a:ext cx="74671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missouriartscouncil.org/html/documents/DOKlevels.p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 flipV="1" rot="10800000">
            <a:off x="1523880" y="5409720"/>
            <a:ext cx="59436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hermann.k12.mo.us/Curriculum/DOK/depth.of.knowledge.descriptors.pd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epth of Knowledge (DOK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90720" y="1676520"/>
            <a:ext cx="7848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four levels of D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kill/Conce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ic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ed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3787920" y="152280"/>
            <a:ext cx="4975200" cy="6477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990720" y="2100240"/>
            <a:ext cx="3047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diagram shows the four DOK levels, associated verbs and sample activities. A full sized chart can be found in the Chapter Two folder on Blackboar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20:39:36Z</dcterms:created>
  <dc:creator>Blackwood</dc:creator>
  <dc:description/>
  <dc:language>en-US</dc:language>
  <cp:lastModifiedBy>AB_Buckrie</cp:lastModifiedBy>
  <dcterms:modified xsi:type="dcterms:W3CDTF">2017-02-02T08:29:45Z</dcterms:modified>
  <cp:revision>16</cp:revision>
  <dc:subject/>
  <dc:title>Designing and Planning Technology-Enhanced Instruction Chapter 2</dc:title>
</cp:coreProperties>
</file>